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55F-C9F8-4C58-AF0C-16ABE168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60E-3CD6-4C66-BD22-0CD9ABE1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D6C-07F1-452B-B2AC-6DFEADE2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FB0-1F65-4D25-9906-BE1BD3D1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CF53-A1C8-4AD3-B83F-CCA27D13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BE32-6E22-4282-9123-59D6010E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BFF1-64A8-4851-8573-1D1F1D52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0C1-5CCC-42DD-875E-02B1E419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9854-6537-46E0-99F4-227762B1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2C88-D903-4C72-8E8E-8BFAA51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997A-8A04-481A-9004-27FB21FF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3F6-C986-4256-8100-33CC555A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4718-28B0-4640-9D9A-D5C1D13C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3ADA-AF60-4FF4-9385-4B1F4417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F874-EDF4-4DD1-B403-F2A3E1E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FCB3-EFF2-4808-A9FB-D3D700E6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2830-9EDD-499B-9F02-1F6B76AE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ECF-AB61-45DA-838A-4B73A130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929-278D-402D-9B5C-4496C34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8CB-D336-49B2-BF9E-A41F7FA1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240-B53F-4282-B6D2-65EA76A6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706-D7C7-4543-B415-0E475FC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A17-B83B-4AC6-B606-9B51AEA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7C1-482C-44E3-B8BE-2C5F3D0C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BEE4-F58A-42E8-B160-CB1F8066C4A3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AEE-7938-4C3E-B46E-993E463BBD9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E I ODCINKI RÓWNOLEG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RÓWNOLEG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71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, a do ekierki linij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Przesuw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22360" y="4464000"/>
            <a:ext cx="655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86640" y="4103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32000" y="4464000"/>
            <a:ext cx="1800000" cy="1512720"/>
            <a:chOff x="3132000" y="4464000"/>
            <a:chExt cx="1800000" cy="1512720"/>
          </a:xfrm>
        </p:grpSpPr>
        <p:sp>
          <p:nvSpPr>
            <p:cNvPr id="102" name=""/>
            <p:cNvSpPr/>
            <p:nvPr/>
          </p:nvSpPr>
          <p:spPr>
            <a:xfrm flipV="1">
              <a:off x="3419280" y="4681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132000" y="446400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16000" y="234936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4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468936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s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 prostej t, co zapisujemy symboliczni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az 24" descr=""/>
          <p:cNvPicPr/>
          <p:nvPr/>
        </p:nvPicPr>
        <p:blipFill>
          <a:blip r:embed="rId1"/>
          <a:srcRect l="8112" t="1585" r="11499" b="1303"/>
          <a:stretch/>
        </p:blipFill>
        <p:spPr>
          <a:xfrm>
            <a:off x="2556000" y="2798640"/>
            <a:ext cx="57600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2000" y="198900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rysujemy prostą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429000"/>
            <a:ext cx="643572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86640" y="3062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5634000"/>
            <a:ext cx="5040360" cy="0"/>
          </a:xfrm>
          <a:prstGeom prst="line">
            <a:avLst/>
          </a:prstGeom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27720" y="527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527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67000" y="5815080"/>
            <a:ext cx="61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roste pokrywające się s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18519E-006 L -2.5E-006 -0.15092 E">
                                      <p:cBhvr>
                                        <p:cTn id="4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RÓWNOLEG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36640" y="1719360"/>
            <a:ext cx="0" cy="4093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171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1630440"/>
            <a:ext cx="9360" cy="40035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124000"/>
            <a:ext cx="4005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wie proste odpoczywał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ię nie doty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ówn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legł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na tapcz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łychać było tylko chrap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ówno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leg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22360" y="2259000"/>
            <a:ext cx="274500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9720"/>
            <a:ext cx="274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16640" y="2259000"/>
            <a:ext cx="288108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72000" y="2979720"/>
            <a:ext cx="292572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6640" y="131436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jeżeli leżą na prostych równoleg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1640" y="2259000"/>
            <a:ext cx="1260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51280" y="2979720"/>
            <a:ext cx="72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21640" y="2979720"/>
            <a:ext cx="85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2000" y="2259000"/>
            <a:ext cx="112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22590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51280" y="225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0621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7000" y="2214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6640" y="221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4200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AB ||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KL ||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22360" y="5589720"/>
            <a:ext cx="679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5589720"/>
            <a:ext cx="126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5589720"/>
            <a:ext cx="855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6640" y="459900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leżące na jednej prostej są do siebi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32000" y="558972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37000" y="55897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128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7000" y="608472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 || 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33:48Z</dcterms:modified>
  <cp:revision>12</cp:revision>
  <dc:subject/>
  <dc:title>Slajd 1</dc:title>
</cp:coreProperties>
</file>